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77724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55480"/>
            <a:ext cx="77724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55480"/>
            <a:ext cx="37926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55480"/>
            <a:ext cx="37926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250236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200240"/>
            <a:ext cx="250236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200240"/>
            <a:ext cx="250236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55480"/>
            <a:ext cx="250236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55480"/>
            <a:ext cx="250236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55480"/>
            <a:ext cx="250236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B14C-56C6-4C36-9C16-DE0672914C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200240"/>
            <a:ext cx="7772400" cy="56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DB11-9789-49D3-89E0-A738B3B542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7772400" cy="565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96C43-B0A9-4E25-BB24-A37BD805E8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565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565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DEE5-94C7-4C45-8644-DF98DCE0A8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55E3-B89E-4405-8955-CDCE410F41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44FE-6B36-406D-A8E2-DB84F8B300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565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55480"/>
            <a:ext cx="37926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8988-3DCF-4DDD-A519-7B4A993197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200240"/>
            <a:ext cx="7772400" cy="56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565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155480"/>
            <a:ext cx="37926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0543-2731-42D2-AFB3-8F4211AFC3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55480"/>
            <a:ext cx="77724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A77A6-04DF-4E38-AF8D-7ACCBE943E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77724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155480"/>
            <a:ext cx="77724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0E98-722D-4827-8D1B-EED9C7A367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55480"/>
            <a:ext cx="37926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155480"/>
            <a:ext cx="37926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984A-ED5E-439B-B5F3-A996AF95B7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250236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200240"/>
            <a:ext cx="250236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200240"/>
            <a:ext cx="250236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155480"/>
            <a:ext cx="250236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155480"/>
            <a:ext cx="250236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155480"/>
            <a:ext cx="250236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6611-B0B6-47AD-879D-F840140B70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7772400" cy="565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565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565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77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565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55480"/>
            <a:ext cx="37926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565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55480"/>
            <a:ext cx="37926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00240"/>
            <a:ext cx="37926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00240"/>
            <a:ext cx="37926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55480"/>
            <a:ext cx="7772400" cy="2698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00240"/>
            <a:ext cx="7772400" cy="565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400"/>
              </a:spcBef>
              <a:buClr>
                <a:srgbClr val="003300"/>
              </a:buClr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400"/>
              </a:spcBef>
              <a:buClr>
                <a:srgbClr val="003300"/>
              </a:buClr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00"/>
              </a:spcBef>
              <a:buClr>
                <a:srgbClr val="003300"/>
              </a:buClr>
              <a:buSzPct val="75000"/>
              <a:buFont typeface="Arial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00"/>
              </a:spcBef>
              <a:buClr>
                <a:srgbClr val="003300"/>
              </a:buClr>
              <a:buFont typeface="Arial"/>
              <a:buChar char="w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400"/>
              </a:spcBef>
              <a:buClr>
                <a:srgbClr val="000000"/>
              </a:buClr>
              <a:buFont typeface="Arial"/>
              <a:buChar char="w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400"/>
              </a:spcBef>
              <a:buClr>
                <a:srgbClr val="000000"/>
              </a:buClr>
              <a:buFont typeface="Arial"/>
              <a:buChar char="w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200240"/>
            <a:ext cx="7772400" cy="56577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1880" indent="-285840">
              <a:spcBef>
                <a:spcPts val="400"/>
              </a:spcBef>
              <a:buClr>
                <a:srgbClr val="003300"/>
              </a:buClr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8600">
              <a:spcBef>
                <a:spcPts val="400"/>
              </a:spcBef>
              <a:buClr>
                <a:srgbClr val="003300"/>
              </a:buClr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89040" indent="-228600">
              <a:spcBef>
                <a:spcPts val="400"/>
              </a:spcBef>
              <a:buClr>
                <a:srgbClr val="003300"/>
              </a:buClr>
              <a:buSzPct val="75000"/>
              <a:buFont typeface="Arial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46240" indent="-228600">
              <a:spcBef>
                <a:spcPts val="400"/>
              </a:spcBef>
              <a:buClr>
                <a:srgbClr val="003300"/>
              </a:buClr>
              <a:buFont typeface="Arial"/>
              <a:buChar char="w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46240" indent="-228600">
              <a:spcBef>
                <a:spcPts val="400"/>
              </a:spcBef>
              <a:buClr>
                <a:srgbClr val="000000"/>
              </a:buClr>
              <a:buFont typeface="Arial"/>
              <a:buChar char="w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46240" indent="-228600">
              <a:spcBef>
                <a:spcPts val="400"/>
              </a:spcBef>
              <a:buClr>
                <a:srgbClr val="000000"/>
              </a:buClr>
              <a:buFont typeface="Arial"/>
              <a:buChar char="w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8624880" y="6453360"/>
            <a:ext cx="3110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B762-AF74-4FD2-BE73-129F6D7DE579}" type="slidenum">
              <a:rPr b="0" lang="en-US" sz="1400" spc="-1" strike="noStrike">
                <a:solidFill>
                  <a:srgbClr val="ffffff"/>
                </a:solidFill>
                <a:latin typeface="Arial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095880"/>
            <a:ext cx="9144000" cy="1800"/>
          </a:xfrm>
          <a:prstGeom prst="line">
            <a:avLst/>
          </a:prstGeom>
          <a:ln w="316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352000" cy="5327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Arial Bold"/>
              </a:rPr>
              <a:t>Повышение теплозащиты жилых домов как ключевое мероприятие в энергосбережении</a:t>
            </a:r>
            <a:r>
              <a:rPr b="0" lang="en-US" sz="3200" spc="-1" strike="noStrike">
                <a:solidFill>
                  <a:srgbClr val="ffffff"/>
                </a:solidFill>
                <a:latin typeface="Arial Bold"/>
              </a:rPr>
              <a:t>»</a:t>
            </a:r>
            <a:r>
              <a:rPr b="0" lang="en-US" sz="2400" spc="-1" strike="noStrike">
                <a:solidFill>
                  <a:srgbClr val="ffffff"/>
                </a:solidFill>
                <a:latin typeface="Arial Bold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-324720" y="115920"/>
            <a:ext cx="71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0360" y="6238800"/>
            <a:ext cx="2530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old"/>
              </a:rPr>
              <a:t>Москва</a:t>
            </a:r>
            <a:r>
              <a:rPr b="0" lang="en-US" sz="1800" spc="-1" strike="noStrike">
                <a:solidFill>
                  <a:srgbClr val="ffffff"/>
                </a:solidFill>
                <a:latin typeface="Arial Bold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 Bold"/>
              </a:rPr>
              <a:t>ноябрь</a:t>
            </a:r>
            <a:r>
              <a:rPr b="0" lang="en-US" sz="1800" spc="-1" strike="noStrike">
                <a:solidFill>
                  <a:srgbClr val="ffffff"/>
                </a:solidFill>
                <a:latin typeface="Arial Bold"/>
              </a:rPr>
              <a:t> 2010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5229360"/>
            <a:ext cx="83944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old"/>
              </a:rPr>
              <a:t>Романико</a:t>
            </a:r>
            <a:r>
              <a:rPr b="0" lang="en-US" sz="1800" spc="-1" strike="noStrike">
                <a:solidFill>
                  <a:srgbClr val="ffffff"/>
                </a:solidFill>
                <a:latin typeface="Arial Bold"/>
              </a:rPr>
              <a:t> Ирина </a:t>
            </a:r>
            <a:r>
              <a:rPr b="0" lang="ru-RU" sz="1800" spc="-1" strike="noStrike">
                <a:solidFill>
                  <a:srgbClr val="ffffff"/>
                </a:solidFill>
                <a:latin typeface="Arial Bold"/>
              </a:rPr>
              <a:t>Михайловн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993600"/>
            <a:ext cx="8153640" cy="10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400" spc="-1" strike="noStrike">
                <a:solidFill>
                  <a:srgbClr val="ffffff"/>
                </a:solidFill>
                <a:latin typeface="Arial Bold"/>
              </a:rPr>
              <a:t> </a:t>
            </a:r>
            <a:br>
              <a:rPr sz="3200"/>
            </a:b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36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энергосберегающих мероприятий при проведении капитального ремонта панельных домов в Моск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72400" cy="475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тепление наружных ограждающих конструкций зда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 с применением теплоизоляционных фасадов с тонким штукатурным слоем, либо фасадных систем с вентилируемой воздушной прослойк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 приведенное сопротивление теплопередаче  ПСТ– 3,13 м2*С/В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тепление совмещенных кровель или чердачных перекрыт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 ПСТ – 4,12 м*С/В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ена оконных и балконных блоков на энергоэффективные, более герметич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 ПСТ – 0,54 м*С/Вт с сопротивлением воздухопроницанию – 0,9 м2*ч/кг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екление лоджий и балкон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едрение автоматизированных узлов управления АУУ теплопотреблением зданий на отоп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дивидуальное регулирование теплоотдачи каждого отопительного приб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материалам НП «АВ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AEBE0-B137-4406-9ACB-BDAF584ED4D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9129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ельное теплопотребление здания за отопительный перио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роведения капитального рем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1125360"/>
          <a:ext cx="7777080" cy="4869000"/>
        </p:xfrm>
        <a:graphic>
          <a:graphicData uri="http://schemas.openxmlformats.org/drawingml/2006/table">
            <a:tbl>
              <a:tblPr/>
              <a:tblGrid>
                <a:gridCol w="2325600"/>
                <a:gridCol w="1381320"/>
                <a:gridCol w="1382760"/>
                <a:gridCol w="1380960"/>
                <a:gridCol w="1306440"/>
              </a:tblGrid>
              <a:tr h="1105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ельное теплопотребление здания за отопительный период в зависимости от серии здания, кВт*ч/м к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4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-18-01/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-49-04/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-3-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-44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ание до капитального ремо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ание после капитального ремо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  <a:tr h="133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я энергии за счет внедрения энергосберегающих мероприятий при капремонте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5938920" y="604188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атериалам НП «АВ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06A6-64CE-4434-B04E-B928F87EECF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839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я энергии за отопительный период в зависимости от типа здания и в денежном эквивалент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Моск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4360" y="1341360"/>
          <a:ext cx="7772400" cy="458640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  <a:gridCol w="1942920"/>
                <a:gridCol w="1943280"/>
              </a:tblGrid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ия з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пловой энергии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т*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денежном эквиваленте,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руб/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роцентном отношении,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18 – 01/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=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3 618 кв.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3 7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49 – 04/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=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60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.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9 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14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– 3/1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=16 275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.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30 4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8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 – 44/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=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506 кв 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44 8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6227640" y="604188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материалам НП «АВ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2590-4EEA-4BE1-9571-3B47232449C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1047600"/>
            <a:ext cx="9144000" cy="1800"/>
          </a:xfrm>
          <a:prstGeom prst="line">
            <a:avLst/>
          </a:prstGeom>
          <a:ln w="22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920" y="6156360"/>
            <a:ext cx="649440" cy="657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19200" y="6273720"/>
            <a:ext cx="18162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old"/>
              </a:rPr>
              <a:t>МИНИСТЕРСТВО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old"/>
              </a:rPr>
              <a:t>РЕГИОНАЛЬНОГО РАЗВИТ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old"/>
              </a:rPr>
              <a:t>Российской Федерац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97800" cy="102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Основные мероприятия по утеплению зданий и их техническому переоснащению в целях энергоресурсосбере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основным техническим мероприятиям по энергоресурсосбережению с учетом требуемых затрат можно отнес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елка,  уплотнение и  утепление  дверных блоков на входе в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ъезды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и обеспечение автоматического закрывания двер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елка и  уплотнение  оконных блоков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ъезд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ановка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зкоэмиссионны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текол на  окна в  подъездах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ановка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плоотражающи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ленок на окна в подъезда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ена оконных блоков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ановка  дверей и  заслонок  в проемах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вальны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помещени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тепление  потолка подвала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ановка дверей и  заслонок в  проемах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дачны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омещ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тепление пола черда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тепление  кровл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делка     межпанельных и компенсационны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вов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(продувание, протечки, промерзание, образование грибка)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1047600"/>
            <a:ext cx="9144000" cy="1800"/>
          </a:xfrm>
          <a:prstGeom prst="line">
            <a:avLst/>
          </a:prstGeom>
          <a:ln w="22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9200" y="6273720"/>
            <a:ext cx="18162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02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Основные мероприятия по утеплению зданий  и их техническому переоснащению в целях энергоресурсосбере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820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идрофобизация сте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тепление  наружных сте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помощью фасадных систем на основе минва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ена оконных и балконных  блоков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квартирах с применением двойных стеклопаке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текление  балконов и  лоджий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несение на окна теплоотражающих пленок и специальных покрыт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ена однотрубной системы отопления в квартирах на двухтрубную для последующей установки терморегуляторов и теплосчетч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ановка коллективного общедомового прибора учета  тепловой   энергии с возможностью дистанционного считывания показаний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дернизация  ИТП с  установкой и  настройкой  аппаратуры   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матического управления   параметрами  воды в системе отопления в зависимости от температуры  наружного  воздух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например, использование  пластинчатых водонагревателей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ановка   термостатических вентилей на радиаторах;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ащение квартир индивидуальной системой механической вентиляции с рекуперацией тепла вытяжного воздух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1047600"/>
            <a:ext cx="9144000" cy="1800"/>
          </a:xfrm>
          <a:prstGeom prst="line">
            <a:avLst/>
          </a:prstGeom>
          <a:ln w="22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9200" y="6273720"/>
            <a:ext cx="18162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Основные мероприятия по утеплению зданий и их техническому переоснащению в целях энергоресурсосбере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29840" y="112536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роприятия на долгосрочную перспектив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тановка в жилых домах поквартирных теплосчетчиков, а также индивидуальных (на отопительных приборах) приборов регулирования и считывания потребления теп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фасадная автоматическая регулировка  подачи тепла на отопление с учетом ориентации эдания по сторонам све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ена ЦТП на ИТП в блок-модульном исполнен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недрение децентрализованного теплоснабжения от домовых когерентных устройств выработки энергии при дефиците установленной тепловой мощности источников тепловой энергии и пропускной способности тепловых сет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пользование нетрадиционных видов энергии (тепловые насосы, биогаз, солнечная энергия, геотермальные воды, ветровая энергия и т.п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1047600"/>
            <a:ext cx="9144000" cy="1800"/>
          </a:xfrm>
          <a:prstGeom prst="line">
            <a:avLst/>
          </a:prstGeom>
          <a:ln w="22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9200" y="6273720"/>
            <a:ext cx="18162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458200" cy="102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Энергосбережение в жилых домах и зданиях бюджетной сферы</a:t>
            </a:r>
            <a:br>
              <a:rPr sz="2000"/>
            </a:b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- Экономия энергии должна стать дешевле ее производства-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37"/>
          <p:cNvSpPr/>
          <p:nvPr/>
        </p:nvSpPr>
        <p:spPr>
          <a:xfrm>
            <a:off x="4427640" y="1700280"/>
            <a:ext cx="4429080" cy="3429000"/>
          </a:xfrm>
          <a:prstGeom prst="rect">
            <a:avLst/>
          </a:prstGeom>
          <a:solidFill>
            <a:srgbClr val="99ff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6"/>
          <p:cNvSpPr/>
          <p:nvPr/>
        </p:nvSpPr>
        <p:spPr>
          <a:xfrm>
            <a:off x="179280" y="1989000"/>
            <a:ext cx="4714920" cy="35784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7"/>
          <p:cNvSpPr/>
          <p:nvPr/>
        </p:nvSpPr>
        <p:spPr>
          <a:xfrm>
            <a:off x="539640" y="2205000"/>
            <a:ext cx="36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и окупаемости проектов,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Диаграмма 24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4657680" cy="2438640"/>
          </a:xfrm>
          <a:prstGeom prst="rect">
            <a:avLst/>
          </a:prstGeom>
          <a:ln w="0">
            <a:noFill/>
          </a:ln>
        </p:spPr>
      </p:pic>
      <p:grpSp>
        <p:nvGrpSpPr>
          <p:cNvPr id="153" name="Группа 17"/>
          <p:cNvGrpSpPr/>
          <p:nvPr/>
        </p:nvGrpSpPr>
        <p:grpSpPr>
          <a:xfrm>
            <a:off x="4356000" y="1700280"/>
            <a:ext cx="4608720" cy="3460680"/>
            <a:chOff x="4356000" y="1700280"/>
            <a:chExt cx="4608720" cy="3460680"/>
          </a:xfrm>
        </p:grpSpPr>
        <p:sp>
          <p:nvSpPr>
            <p:cNvPr id="154" name="Прямоугольник 27"/>
            <p:cNvSpPr/>
            <p:nvPr/>
          </p:nvSpPr>
          <p:spPr>
            <a:xfrm>
              <a:off x="7051680" y="3424320"/>
              <a:ext cx="1033920" cy="110232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Прямоугольник 28"/>
            <p:cNvSpPr/>
            <p:nvPr/>
          </p:nvSpPr>
          <p:spPr>
            <a:xfrm>
              <a:off x="5550840" y="2812320"/>
              <a:ext cx="1500480" cy="171432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Прямоугольник 29"/>
            <p:cNvSpPr/>
            <p:nvPr/>
          </p:nvSpPr>
          <p:spPr>
            <a:xfrm>
              <a:off x="4983480" y="2383560"/>
              <a:ext cx="567360" cy="2143440"/>
            </a:xfrm>
            <a:prstGeom prst="rect">
              <a:avLst/>
            </a:prstGeom>
            <a:solidFill>
              <a:srgbClr val="dddddd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Группа 3"/>
            <p:cNvGrpSpPr/>
            <p:nvPr/>
          </p:nvGrpSpPr>
          <p:grpSpPr>
            <a:xfrm>
              <a:off x="4356000" y="1700280"/>
              <a:ext cx="4510080" cy="3287160"/>
              <a:chOff x="4356000" y="1700280"/>
              <a:chExt cx="4510080" cy="3287160"/>
            </a:xfrm>
          </p:grpSpPr>
          <p:pic>
            <p:nvPicPr>
              <p:cNvPr id="158" name="Диаграмма 34" descr=""/>
              <p:cNvPicPr/>
              <p:nvPr/>
            </p:nvPicPr>
            <p:blipFill>
              <a:blip r:embed="rId2"/>
              <a:stretch/>
            </p:blipFill>
            <p:spPr>
              <a:xfrm>
                <a:off x="4356000" y="1700280"/>
                <a:ext cx="4510080" cy="328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TextBox 5"/>
              <p:cNvSpPr/>
              <p:nvPr/>
            </p:nvSpPr>
            <p:spPr>
              <a:xfrm>
                <a:off x="4853520" y="1707840"/>
                <a:ext cx="2169360" cy="276480"/>
              </a:xfrm>
              <a:prstGeom prst="rect">
                <a:avLst/>
              </a:prstGeom>
              <a:solidFill>
                <a:srgbClr val="99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Arial"/>
                  </a:rPr>
                  <a:t>Стоимость, руб/единицу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xtBox 14"/>
            <p:cNvSpPr/>
            <p:nvPr/>
          </p:nvSpPr>
          <p:spPr>
            <a:xfrm>
              <a:off x="5066280" y="3448800"/>
              <a:ext cx="258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Производство и транспорт ресурс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15"/>
            <p:cNvSpPr/>
            <p:nvPr/>
          </p:nvSpPr>
          <p:spPr>
            <a:xfrm>
              <a:off x="7363080" y="2260440"/>
              <a:ext cx="1395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Экономия ресурс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16"/>
            <p:cNvSpPr/>
            <p:nvPr/>
          </p:nvSpPr>
          <p:spPr>
            <a:xfrm>
              <a:off x="4996800" y="4884480"/>
              <a:ext cx="3967920" cy="276480"/>
            </a:xfrm>
            <a:prstGeom prst="rect">
              <a:avLst/>
            </a:prstGeom>
            <a:solidFill>
              <a:srgbClr val="99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Экономия или производство, единиц в го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9129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ожидаемые итоги утепления с модернизацией крупнопанельных до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199880"/>
            <a:ext cx="7772400" cy="4389480"/>
          </a:xfrm>
          <a:prstGeom prst="rect">
            <a:avLst/>
          </a:prstGeom>
          <a:gradFill rotWithShape="0">
            <a:gsLst>
              <a:gs pos="0">
                <a:srgbClr val="afaf69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 отопление жилых домов затрачивается большое количество энергии, что является причиной высоких выбросов СО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ля отопления одной квартир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=56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 кв. требуется 2,5-2,8 тут в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требление тепловой энергии панельными домами можно сократить в 2 раза от имеющихся, что приведет к сокращению выбросов СО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среднем на 1-1,5 т на квартиру в го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ышение теплозащиты здания как ключевое мероприятие в энергосбережении способствует не только сокращению энергопотребления и выбросов СО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о и защищает бетонные фасады от климатических воздействий, что значительно увеличивает срок эксплуатации здания без ремонта фасада, устраняет органические поражения стен, придает новую яркую выразительность современному горо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2FC42-76C7-41B4-A7A8-129D22D2A0D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99ccff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6095880"/>
            <a:ext cx="9144000" cy="1800"/>
          </a:xfrm>
          <a:prstGeom prst="line">
            <a:avLst/>
          </a:prstGeom>
          <a:ln w="316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352000" cy="53276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old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92000" y="396720"/>
            <a:ext cx="18162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40360" y="6238800"/>
            <a:ext cx="2530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old"/>
              </a:rPr>
              <a:t>Москва</a:t>
            </a:r>
            <a:r>
              <a:rPr b="0" lang="en-US" sz="1800" spc="-1" strike="noStrike">
                <a:solidFill>
                  <a:srgbClr val="ffffff"/>
                </a:solidFill>
                <a:latin typeface="Arial Bold"/>
              </a:rPr>
              <a:t>, </a:t>
            </a:r>
            <a:r>
              <a:rPr b="0" lang="ru-RU" sz="1800" spc="-1" strike="noStrike">
                <a:solidFill>
                  <a:srgbClr val="ffffff"/>
                </a:solidFill>
                <a:latin typeface="Arial Bold"/>
              </a:rPr>
              <a:t>ноябрь</a:t>
            </a:r>
            <a:r>
              <a:rPr b="0" lang="en-US" sz="1800" spc="-1" strike="noStrike">
                <a:solidFill>
                  <a:srgbClr val="ffffff"/>
                </a:solidFill>
                <a:latin typeface="Arial Bold"/>
              </a:rPr>
              <a:t> 2010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993600"/>
            <a:ext cx="8153640" cy="10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400" spc="-1" strike="noStrike">
                <a:solidFill>
                  <a:srgbClr val="ffffff"/>
                </a:solidFill>
                <a:latin typeface="Arial Bold"/>
              </a:rPr>
              <a:t> </a:t>
            </a:r>
            <a:br>
              <a:rPr sz="3200"/>
            </a:b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1E32D-519D-4C1B-A578-CA872D355E79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овые серии панельных домов – 2,1 млрд кв м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з 3,1 млрд кв м жилого фонда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219640" y="836640"/>
            <a:ext cx="3629160" cy="5143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5040360" cy="3781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8360" y="522936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0 % населения России проживает в домах из сборного железобе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981000"/>
            <a:ext cx="9144000" cy="1800"/>
          </a:xfrm>
          <a:prstGeom prst="line">
            <a:avLst/>
          </a:prstGeom>
          <a:ln w="22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38920" y="6273720"/>
            <a:ext cx="795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839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Bold"/>
              </a:rPr>
              <a:t>«</a:t>
            </a:r>
            <a:r>
              <a:rPr b="1" lang="ru-RU" sz="2000" spc="-1" strike="noStrike">
                <a:solidFill>
                  <a:srgbClr val="3399ff"/>
                </a:solidFill>
                <a:latin typeface="Arial Bold"/>
              </a:rPr>
              <a:t>В жилищном секторе существует самый большой потенциал повышения энергоэффективности в России</a:t>
            </a:r>
            <a:r>
              <a:rPr b="1" lang="en-US" sz="2000" spc="-1" strike="noStrike">
                <a:solidFill>
                  <a:srgbClr val="3399ff"/>
                </a:solidFill>
                <a:latin typeface="Arial Bold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3640" y="5589720"/>
            <a:ext cx="4392360" cy="10490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756320" y="980640"/>
            <a:ext cx="4387680" cy="587700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Диаграмма 8"/>
          <p:cNvGraphicFramePr/>
          <p:nvPr/>
        </p:nvGraphicFramePr>
        <p:xfrm>
          <a:off x="4211640" y="1197000"/>
          <a:ext cx="464652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Диаграмма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197000"/>
                    <a:ext cx="46465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Диаграмма 7" descr=""/>
          <p:cNvPicPr/>
          <p:nvPr/>
        </p:nvPicPr>
        <p:blipFill>
          <a:blip r:embed="rId3"/>
          <a:stretch/>
        </p:blipFill>
        <p:spPr>
          <a:xfrm>
            <a:off x="0" y="1268280"/>
            <a:ext cx="4572000" cy="388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900000" y="5445000"/>
            <a:ext cx="7921800" cy="825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6,35 кг ут в год расходуется на отопление 1 кв. 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,5 – 2,8 тут необходимы для квартиры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=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54-60 кв.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0285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 теплопотерь различными конструктивными элементами жилого д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4392720" cy="3260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6920" y="5373720"/>
            <a:ext cx="7561440" cy="76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По показаниям домовых теплосчетчиков оплачивается только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36 %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от общего числа тепловой энер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047600"/>
            <a:ext cx="9144000" cy="1800"/>
          </a:xfrm>
          <a:prstGeom prst="line">
            <a:avLst/>
          </a:prstGeom>
          <a:ln w="22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9200" y="6273720"/>
            <a:ext cx="18162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2200" y="1052640"/>
            <a:ext cx="884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5280" indent="-355680" algn="just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70120" y="2060640"/>
            <a:ext cx="1816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89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труктура и уровень энергопотребления в жилых домах при поэтапном повышении уровня теплозащи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692360" y="1413000"/>
            <a:ext cx="5800680" cy="443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1047600"/>
            <a:ext cx="9144000" cy="1800"/>
          </a:xfrm>
          <a:prstGeom prst="line">
            <a:avLst/>
          </a:prstGeom>
          <a:ln w="22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9200" y="6273720"/>
            <a:ext cx="18162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2200" y="1052640"/>
            <a:ext cx="884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5280" indent="-355680" algn="just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70120" y="2060640"/>
            <a:ext cx="1816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8900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ff"/>
                </a:solidFill>
                <a:latin typeface="Arial"/>
              </a:rPr>
              <a:t>Основные причины утечек тепла в жилых домах построенных в 1950-1970 г.г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3640" y="1200240"/>
            <a:ext cx="8569080" cy="48765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98000"/>
          </a:bodyPr>
          <a:p>
            <a:pPr marL="374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Эксплуатацион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едостатки и нарушения (включают в себя наиболее значительное количество дефектов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 Несоответствие нормативным требованиям, согласно которым был построен дом, и современным требованиям по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теплозащит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Эта причина включает в себя недостаточную теплоизоляцию конструкций стен, чердачного перекрытия оконных и балконных блоков домов (особенно в домах серий II-18, II-68, II-49, 1605, II-57, П-3 и некоторых серий повторного применения из полносборных конструкци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 Некачественный монтаж сборных элементов в части   теплоизоляции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тыковых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конструк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47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Теплопотери в домах из сборного железобетона на 20-30 % выше проектных из-за низкого качества строительства и эксплуат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71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047600"/>
            <a:ext cx="9144000" cy="1800"/>
          </a:xfrm>
          <a:prstGeom prst="line">
            <a:avLst/>
          </a:prstGeom>
          <a:ln w="22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9200" y="6273720"/>
            <a:ext cx="18162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2200" y="1052640"/>
            <a:ext cx="8840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5280" indent="-355680" algn="just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70120" y="2060640"/>
            <a:ext cx="18162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8900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9999"/>
                </a:solidFill>
                <a:uFillTx/>
                <a:latin typeface="Arial"/>
              </a:rPr>
              <a:t>Эффект от утепления</a:t>
            </a: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 некоторых элементов панельного д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99"/>
                </a:solidFill>
                <a:latin typeface="Arial"/>
              </a:rPr>
              <a:t>при увеличении толщины утепл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4360" y="1197000"/>
          <a:ext cx="8064360" cy="451800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2800"/>
                <a:gridCol w="1613160"/>
                <a:gridCol w="1612800"/>
              </a:tblGrid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ление тепловой энергии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50- 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т·ч/м2·год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00- 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т·ч/м2·год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0- 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т·ч/м2·год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≥</a:t>
                      </a: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Вт·ч/м2·год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трукти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й элемент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противление теплопередач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м2·°С/В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жная стен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олщина 25 см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7 м2·°С/В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0 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6 м2·°С/В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8 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7 м2·°С/В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6 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8 м2·°С/В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 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крытие верхнего этажа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 м2·°С/В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 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54 м2·°С/В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2 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7 м2·°С/В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0 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 м2·°С/В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0 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крытие подва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м2·°С/В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 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 м2·°С/В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 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 м2·°С/В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 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 м2·°С/В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0 с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а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8; </a:t>
                      </a: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динар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стек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8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вой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стек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1;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вой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стек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трой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стек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28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пособы утепления фасадов жилых зд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4941720"/>
            <a:ext cx="4824360" cy="13687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382680" indent="-343080">
              <a:lnSpc>
                <a:spcPct val="90000"/>
              </a:lnSpc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вентилируемого фасада – 65 у.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 кв ст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стема со штукатурными слоями - «мокрый» фасад – 35-55 у.е.кв м сте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2680" indent="-343080">
              <a:lnSpc>
                <a:spcPct val="90000"/>
              </a:lnSpc>
              <a:spcBef>
                <a:spcPts val="400"/>
              </a:spcBef>
              <a:buClr>
                <a:srgbClr val="777777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упаемость утепления – 12-14 л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6161" t="6405" r="2683" b="0"/>
          <a:stretch/>
        </p:blipFill>
        <p:spPr>
          <a:xfrm>
            <a:off x="3203640" y="836640"/>
            <a:ext cx="3429000" cy="3886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3510" t="0" r="4968" b="0"/>
          <a:stretch/>
        </p:blipFill>
        <p:spPr>
          <a:xfrm>
            <a:off x="5796000" y="3112920"/>
            <a:ext cx="2997000" cy="3745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3168720" cy="296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B6AF-EF90-47FC-A861-5DA689175F4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57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507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Эффект от утепления элементов ограждающих конструкций среднего панельного дома в Европ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4360" y="1341360"/>
          <a:ext cx="7772400" cy="4924440"/>
        </p:xfrm>
        <a:graphic>
          <a:graphicData uri="http://schemas.openxmlformats.org/drawingml/2006/table">
            <a:tbl>
              <a:tblPr/>
              <a:tblGrid>
                <a:gridCol w="1736640"/>
                <a:gridCol w="2077920"/>
                <a:gridCol w="1295280"/>
                <a:gridCol w="1290960"/>
                <a:gridCol w="1371600"/>
              </a:tblGrid>
              <a:tr h="871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троительный элемент зда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Энергосберега-ющие мероприят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Теплопотери, кВт*ч/м кв. общей площади квартир в год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Экономия энергии,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7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о внедр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осле внедр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ружные стен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тепление – 8 с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175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на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spcBef>
                          <a:spcPts val="400"/>
                        </a:spcBef>
                        <a:buClr>
                          <a:srgbClr val="777777"/>
                        </a:buClr>
                        <a:buSzPct val="110000"/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миссия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проветривани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Замена стеклопакета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По необходим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крытие верхнего этаж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тепление – 10 с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крытие подва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Утепление – 6 с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960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умма потерь тепловой энер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3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9600"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6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166F8-D0D7-4150-B5EA-9EF0360E4A0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ivaevasus</dc:creator>
  <dc:description/>
  <cp:keywords/>
  <dc:language>en-US</dc:language>
  <cp:lastModifiedBy>1</cp:lastModifiedBy>
  <dcterms:modified xsi:type="dcterms:W3CDTF">2010-11-17T22:44:49Z</dcterms:modified>
  <cp:revision>23</cp:revision>
  <dc:subject/>
  <dc:title>Цель реформы</dc:title>
</cp:coreProperties>
</file>